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E2E6-0EA2-42F2-95C8-DDA1359E84E6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B284-83B2-4BB6-AD92-43634F2AAAE7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55ED-3BB5-41EB-A73E-5161AD156223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BD70-5B84-4D38-84A4-123B2A8B79E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8993-9B04-4152-8D9C-ED33BF93D892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D29C-E0B3-4063-9DE4-4B5F8AA6C9C6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3E9B-45EB-421D-8B8E-997F2312712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0931-FC0B-44B7-BFB2-AF256CB9EED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F2B1-59A5-4640-98A8-D78AE035F1AA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A5E5-1470-47B8-B1AA-E2E64D8B967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AD5E-F6DF-4ECE-9231-5B63D3C6C19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FC31-67F5-4495-81D7-AB8D2798426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F085-B492-43A9-B5AF-0F50C1DCD7BB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CC80-028D-4A5D-A7D7-C66C7F55E4D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8246-3DCE-49C4-96A8-D0539395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385A-36EC-40B2-9288-9C5F9256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E699-42E1-4C40-B5BD-8DA82C6E2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8877-8403-454B-A3AC-331AD14DB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19AB-9B50-4F91-8544-3652D31C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118E-0F23-4DA0-A323-F8A0FDC1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A504-BA5C-4F7E-BDE7-D0C9445A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5470-3056-4507-BEDA-2221C436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9EAE-4B79-4CF5-AB45-575CD09B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52D9-80B4-4093-B54C-089E71DE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AD93-4529-4D75-A9DD-2C40DC9C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26C4-BF1E-438E-82FB-723A104D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74A6-4949-4CAC-A35C-8684A63B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F16D-AB04-4F78-AA5B-924601F5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2793-D209-4F1D-8020-B8E5700F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7F23-EACA-4007-B2A7-B6B8FDADD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EFA2-B146-4A89-A24F-8E0A25E5D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E9201-8980-4BC8-A956-4282A826C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88A60-05BB-44E2-9316-81D8DADF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29414-CCD1-4307-A44A-E5F2CBC2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6F124-AA47-4438-9F2B-2EA41396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7BC5A-8237-41E7-88AD-0D40EB02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2324-A940-4653-9E1E-C583CCE6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69B5B-52E2-443D-8773-FD1FF66B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7A12C-10F1-4888-B4AE-CC001E2A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A3A85-51C7-48B9-AB7A-6880EFE1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16E34-F660-42C2-845D-E4458BDC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F8903-9B17-4D32-B42A-BD66E039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131E4-4B73-42AC-B049-ACFE92664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4F048-9D1F-432A-989D-449EF8510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A984-518A-481E-9CDD-D7028305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275A-CC50-4187-B345-43C0B55A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77A5-FC69-40F1-ACA8-84565941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85EA-03C4-429E-9A7B-62B40192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88BD-6478-409E-97DC-BAF86CCF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C625-0C0D-443B-8696-FAB44CC8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F389-21A9-44C1-A6BA-CA9461ECF7EA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5143680" y="522360"/>
            <a:ext cx="3503520" cy="938160"/>
          </a:xfrm>
          <a:prstGeom prst="rect">
            <a:avLst/>
          </a:prstGeom>
          <a:solidFill>
            <a:srgbClr val="f0eee4"/>
          </a:solidFill>
          <a:ln w="25560">
            <a:solidFill>
              <a:srgbClr val="f0e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476280" y="501480"/>
            <a:ext cx="4762440" cy="998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7786800" y="487440"/>
            <a:ext cx="876240" cy="1182600"/>
          </a:xfrm>
          <a:prstGeom prst="rect">
            <a:avLst/>
          </a:prstGeom>
          <a:ln w="0">
            <a:noFill/>
          </a:ln>
        </p:spPr>
      </p:pic>
      <p:sp>
        <p:nvSpPr>
          <p:cNvPr id="44" name="Straight Connector 9"/>
          <p:cNvSpPr/>
          <p:nvPr/>
        </p:nvSpPr>
        <p:spPr>
          <a:xfrm>
            <a:off x="463680" y="1565280"/>
            <a:ext cx="8191440" cy="1440"/>
          </a:xfrm>
          <a:prstGeom prst="line">
            <a:avLst/>
          </a:prstGeom>
          <a:ln w="2160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4"/>
          <a:stretch/>
        </p:blipFill>
        <p:spPr>
          <a:xfrm>
            <a:off x="5214960" y="500040"/>
            <a:ext cx="2581200" cy="95580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1"/>
          <p:cNvSpPr/>
          <p:nvPr/>
        </p:nvSpPr>
        <p:spPr>
          <a:xfrm>
            <a:off x="476280" y="6240600"/>
            <a:ext cx="8191440" cy="1440"/>
          </a:xfrm>
          <a:prstGeom prst="line">
            <a:avLst/>
          </a:prstGeom>
          <a:ln w="2160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000F-FCBA-414A-A6D7-EB555535DFAF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8AD7-7F0E-4F9E-8ADD-B787CCD6D18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hyperlink" Target="file:///chemical%20hazard%20.ppt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electrical_safety.ppt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hyperlink" Target="file:///HeatStress.ppt" TargetMode="External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hyperlink" Target="file:///chemical%20hazard%20.ppt" TargetMode="Externa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LaserSafetyTraining.ppt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hyperlink" Target="file:///chemical%20hazard%20.ppt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Lab Safety</a:t>
            </a: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Physical and Chemical</a:t>
            </a: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Hazar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Calibri"/>
              </a:rPr>
              <a:t>Y.Khosrav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Calibri"/>
              </a:rPr>
              <a:t>yakhosravi@yahoo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2428560" y="1714680"/>
            <a:ext cx="625788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lvl="2" marL="55404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caution when adding items to LN2.  Rapid addition of items can result in splashes to the face and han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ounded Rectangle 3"/>
          <p:cNvSpPr/>
          <p:nvPr/>
        </p:nvSpPr>
        <p:spPr>
          <a:xfrm>
            <a:off x="47160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302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305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308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311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Rounded Rectangle 10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314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317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2571480" y="1714680"/>
            <a:ext cx="596268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isotope includes both sealed and unsealed sourc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527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led:  gas chromatograph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27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sealed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2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0" name="Group 6"/>
          <p:cNvGrpSpPr/>
          <p:nvPr/>
        </p:nvGrpSpPr>
        <p:grpSpPr>
          <a:xfrm>
            <a:off x="5651640" y="4076640"/>
            <a:ext cx="1657080" cy="1968480"/>
            <a:chOff x="5651640" y="4076640"/>
            <a:chExt cx="1657080" cy="1968480"/>
          </a:xfrm>
        </p:grpSpPr>
        <p:pic>
          <p:nvPicPr>
            <p:cNvPr id="321" name="Picture 4" descr="87"/>
            <p:cNvPicPr/>
            <p:nvPr/>
          </p:nvPicPr>
          <p:blipFill>
            <a:blip r:embed="rId1"/>
            <a:stretch/>
          </p:blipFill>
          <p:spPr>
            <a:xfrm>
              <a:off x="5651640" y="4076640"/>
              <a:ext cx="1657080" cy="16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Text Box 5"/>
            <p:cNvSpPr/>
            <p:nvPr/>
          </p:nvSpPr>
          <p:spPr>
            <a:xfrm>
              <a:off x="5851080" y="5676840"/>
              <a:ext cx="12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adioac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Rounded Rectangle 6"/>
          <p:cNvSpPr/>
          <p:nvPr/>
        </p:nvSpPr>
        <p:spPr>
          <a:xfrm>
            <a:off x="500040" y="485784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Rounded Rectangle 7"/>
          <p:cNvGrpSpPr/>
          <p:nvPr/>
        </p:nvGrpSpPr>
        <p:grpSpPr>
          <a:xfrm>
            <a:off x="480960" y="4340160"/>
            <a:ext cx="1987560" cy="390600"/>
            <a:chOff x="480960" y="4340160"/>
            <a:chExt cx="1987560" cy="390600"/>
          </a:xfrm>
        </p:grpSpPr>
        <p:pic>
          <p:nvPicPr>
            <p:cNvPr id="325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480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51768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Rounded Rectangle 9"/>
          <p:cNvGrpSpPr/>
          <p:nvPr/>
        </p:nvGrpSpPr>
        <p:grpSpPr>
          <a:xfrm>
            <a:off x="487440" y="2352600"/>
            <a:ext cx="1993680" cy="390600"/>
            <a:chOff x="487440" y="2352600"/>
            <a:chExt cx="1993680" cy="390600"/>
          </a:xfrm>
        </p:grpSpPr>
        <p:pic>
          <p:nvPicPr>
            <p:cNvPr id="328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487440" y="235260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523800" y="2387520"/>
              <a:ext cx="19195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Rounded Rectangle 11"/>
          <p:cNvGrpSpPr/>
          <p:nvPr/>
        </p:nvGrpSpPr>
        <p:grpSpPr>
          <a:xfrm>
            <a:off x="480960" y="3346560"/>
            <a:ext cx="1987560" cy="390240"/>
            <a:chOff x="480960" y="3346560"/>
            <a:chExt cx="1987560" cy="390240"/>
          </a:xfrm>
        </p:grpSpPr>
        <p:pic>
          <p:nvPicPr>
            <p:cNvPr id="331" name="Rounded Rectangle 11" descr=""/>
            <p:cNvPicPr/>
            <p:nvPr/>
          </p:nvPicPr>
          <p:blipFill>
            <a:blip r:embed="rId4"/>
            <a:stretch/>
          </p:blipFill>
          <p:spPr>
            <a:xfrm>
              <a:off x="480960" y="334656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517680" y="3381480"/>
              <a:ext cx="19177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Rounded Rectangle 12"/>
          <p:cNvGrpSpPr/>
          <p:nvPr/>
        </p:nvGrpSpPr>
        <p:grpSpPr>
          <a:xfrm>
            <a:off x="480960" y="3840120"/>
            <a:ext cx="1987560" cy="390600"/>
            <a:chOff x="480960" y="3840120"/>
            <a:chExt cx="1987560" cy="390600"/>
          </a:xfrm>
        </p:grpSpPr>
        <p:pic>
          <p:nvPicPr>
            <p:cNvPr id="334" name="Rounded Rectangle 12" descr=""/>
            <p:cNvPicPr/>
            <p:nvPr/>
          </p:nvPicPr>
          <p:blipFill>
            <a:blip r:embed="rId5"/>
            <a:stretch/>
          </p:blipFill>
          <p:spPr>
            <a:xfrm>
              <a:off x="480960" y="384012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517680" y="387504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Rounded Rectangle 13"/>
          <p:cNvGrpSpPr/>
          <p:nvPr/>
        </p:nvGrpSpPr>
        <p:grpSpPr>
          <a:xfrm>
            <a:off x="450720" y="2846520"/>
            <a:ext cx="1987560" cy="390240"/>
            <a:chOff x="450720" y="2846520"/>
            <a:chExt cx="1987560" cy="390240"/>
          </a:xfrm>
        </p:grpSpPr>
        <p:pic>
          <p:nvPicPr>
            <p:cNvPr id="337" name="Rounded Rectangle 13" descr=""/>
            <p:cNvPicPr/>
            <p:nvPr/>
          </p:nvPicPr>
          <p:blipFill>
            <a:blip r:embed="rId6"/>
            <a:stretch/>
          </p:blipFill>
          <p:spPr>
            <a:xfrm>
              <a:off x="450720" y="284652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485640" y="28828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0" name="Rounded Rectangle 14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341" name="Rounded Rectangle 14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2571840" y="1785960"/>
            <a:ext cx="6114960" cy="43401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of radioactive materials requires prior authorization from the UAF Radiation Safety Offic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907-474-6771).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TE: All project members must have UAF Training and Authoriz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ounded Rectangle 12"/>
          <p:cNvSpPr/>
          <p:nvPr/>
        </p:nvSpPr>
        <p:spPr>
          <a:xfrm>
            <a:off x="500040" y="485784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Rounded Rectangle 13"/>
          <p:cNvGrpSpPr/>
          <p:nvPr/>
        </p:nvGrpSpPr>
        <p:grpSpPr>
          <a:xfrm>
            <a:off x="480960" y="4340160"/>
            <a:ext cx="1987560" cy="390600"/>
            <a:chOff x="480960" y="4340160"/>
            <a:chExt cx="1987560" cy="390600"/>
          </a:xfrm>
        </p:grpSpPr>
        <p:pic>
          <p:nvPicPr>
            <p:cNvPr id="346" name="Rounded Rectangle 13" descr=""/>
            <p:cNvPicPr/>
            <p:nvPr/>
          </p:nvPicPr>
          <p:blipFill>
            <a:blip r:embed="rId1"/>
            <a:stretch/>
          </p:blipFill>
          <p:spPr>
            <a:xfrm>
              <a:off x="480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51768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Rounded Rectangle 15"/>
          <p:cNvGrpSpPr/>
          <p:nvPr/>
        </p:nvGrpSpPr>
        <p:grpSpPr>
          <a:xfrm>
            <a:off x="487440" y="2352600"/>
            <a:ext cx="1993680" cy="390600"/>
            <a:chOff x="487440" y="2352600"/>
            <a:chExt cx="1993680" cy="390600"/>
          </a:xfrm>
        </p:grpSpPr>
        <p:pic>
          <p:nvPicPr>
            <p:cNvPr id="349" name="Rounded Rectangle 15" descr=""/>
            <p:cNvPicPr/>
            <p:nvPr/>
          </p:nvPicPr>
          <p:blipFill>
            <a:blip r:embed="rId2"/>
            <a:stretch/>
          </p:blipFill>
          <p:spPr>
            <a:xfrm>
              <a:off x="487440" y="235260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523800" y="2387520"/>
              <a:ext cx="19195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Rounded Rectangle 17"/>
          <p:cNvGrpSpPr/>
          <p:nvPr/>
        </p:nvGrpSpPr>
        <p:grpSpPr>
          <a:xfrm>
            <a:off x="480960" y="3346560"/>
            <a:ext cx="1987560" cy="390240"/>
            <a:chOff x="480960" y="3346560"/>
            <a:chExt cx="1987560" cy="390240"/>
          </a:xfrm>
        </p:grpSpPr>
        <p:pic>
          <p:nvPicPr>
            <p:cNvPr id="352" name="Rounded Rectangle 17" descr=""/>
            <p:cNvPicPr/>
            <p:nvPr/>
          </p:nvPicPr>
          <p:blipFill>
            <a:blip r:embed="rId3"/>
            <a:stretch/>
          </p:blipFill>
          <p:spPr>
            <a:xfrm>
              <a:off x="480960" y="334656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517680" y="3381480"/>
              <a:ext cx="19177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Rounded Rectangle 18"/>
          <p:cNvGrpSpPr/>
          <p:nvPr/>
        </p:nvGrpSpPr>
        <p:grpSpPr>
          <a:xfrm>
            <a:off x="480960" y="3840120"/>
            <a:ext cx="1987560" cy="390600"/>
            <a:chOff x="480960" y="3840120"/>
            <a:chExt cx="1987560" cy="390600"/>
          </a:xfrm>
        </p:grpSpPr>
        <p:pic>
          <p:nvPicPr>
            <p:cNvPr id="355" name="Rounded Rectangle 18" descr=""/>
            <p:cNvPicPr/>
            <p:nvPr/>
          </p:nvPicPr>
          <p:blipFill>
            <a:blip r:embed="rId4"/>
            <a:stretch/>
          </p:blipFill>
          <p:spPr>
            <a:xfrm>
              <a:off x="480960" y="384012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517680" y="387504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Rounded Rectangle 19"/>
          <p:cNvGrpSpPr/>
          <p:nvPr/>
        </p:nvGrpSpPr>
        <p:grpSpPr>
          <a:xfrm>
            <a:off x="450720" y="2846520"/>
            <a:ext cx="1987560" cy="390240"/>
            <a:chOff x="450720" y="2846520"/>
            <a:chExt cx="1987560" cy="390240"/>
          </a:xfrm>
        </p:grpSpPr>
        <p:pic>
          <p:nvPicPr>
            <p:cNvPr id="358" name="Rounded Rectangle 19" descr=""/>
            <p:cNvPicPr/>
            <p:nvPr/>
          </p:nvPicPr>
          <p:blipFill>
            <a:blip r:embed="rId5"/>
            <a:stretch/>
          </p:blipFill>
          <p:spPr>
            <a:xfrm>
              <a:off x="450720" y="284652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485640" y="28828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</a:rPr>
                <a:t>Compressed Ga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1" name="Rounded Rectangle 9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362" name="Rounded Rectangle 9" descr=""/>
            <p:cNvPicPr/>
            <p:nvPr/>
          </p:nvPicPr>
          <p:blipFill>
            <a:blip r:embed="rId6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KINGC0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3"/>
          <p:cNvSpPr/>
          <p:nvPr/>
        </p:nvSpPr>
        <p:spPr>
          <a:xfrm>
            <a:off x="2457360" y="1967040"/>
            <a:ext cx="535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B Zar"/>
              </a:rPr>
              <a:t>THANKS FOR YOUY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499840" y="1714320"/>
            <a:ext cx="618660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 (but not limited to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ressed g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rical equi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mal haz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ounded Rectangle 3"/>
          <p:cNvSpPr/>
          <p:nvPr/>
        </p:nvSpPr>
        <p:spPr>
          <a:xfrm>
            <a:off x="428760" y="235728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Physic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Rounded Rectangle 4"/>
          <p:cNvGrpSpPr/>
          <p:nvPr/>
        </p:nvGrpSpPr>
        <p:grpSpPr>
          <a:xfrm>
            <a:off x="407880" y="2840040"/>
            <a:ext cx="1994040" cy="390600"/>
            <a:chOff x="407880" y="2840040"/>
            <a:chExt cx="1994040" cy="390600"/>
          </a:xfrm>
        </p:grpSpPr>
        <p:pic>
          <p:nvPicPr>
            <p:cNvPr id="140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07880" y="2840040"/>
              <a:ext cx="19940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44604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</a:rPr>
                <a:t>Compressed Ga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143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146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149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152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155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500200" y="1714320"/>
            <a:ext cx="622944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ressed gas cylinders must be restrained in an upright position in the la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s must be in place when cylinder is not in u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e sure regulator and supply lines are in good condi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ver use rigid plastic tubing, which can shatter if the pressure limits are excee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ounded Rectangle 3"/>
          <p:cNvSpPr/>
          <p:nvPr/>
        </p:nvSpPr>
        <p:spPr>
          <a:xfrm>
            <a:off x="428760" y="2857680"/>
            <a:ext cx="1952640" cy="35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Compressed G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160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163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166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169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172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175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2571840" y="1714680"/>
            <a:ext cx="611496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urning on the 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sure that the flow valve is open (so there will be no pressure in the supply line).  Adjust flow valve only after you have opened the regul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urn your head away from the tan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179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182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185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188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191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ounded Rectangle 11"/>
          <p:cNvSpPr/>
          <p:nvPr/>
        </p:nvSpPr>
        <p:spPr>
          <a:xfrm>
            <a:off x="428760" y="2857680"/>
            <a:ext cx="1952640" cy="35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Compressed G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ounded Rectangle 12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195" name="Rounded Rectangle 12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643120" y="1714320"/>
            <a:ext cx="604368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ways inspect electrical cords prior to use.  Do not use if they are cracked or have exposed wir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ver use electrical appliances near wate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ke sure hands are dry when unplugging a cor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not overload outle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void excessive use of extension cord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ver override the safety features on electrical equip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ounded Rectangle 3">
            <a:hlinkClick r:id="rId1"/>
          </p:cNvPr>
          <p:cNvSpPr/>
          <p:nvPr/>
        </p:nvSpPr>
        <p:spPr>
          <a:xfrm>
            <a:off x="428760" y="3357720"/>
            <a:ext cx="200016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Electrical</a:t>
            </a: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200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03" name="Rounded Rectangle 6" descr=""/>
            <p:cNvPicPr/>
            <p:nvPr/>
          </p:nvPicPr>
          <p:blipFill>
            <a:blip r:embed="rId3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06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209" name="Rounded Rectangle 10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Rounded Rectangle 12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212" name="Rounded Rectangle 12" descr=""/>
            <p:cNvPicPr/>
            <p:nvPr/>
          </p:nvPicPr>
          <p:blipFill>
            <a:blip r:embed="rId7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Rounded Rectangle 8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15" name="Rounded Rectangle 8" descr="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499840" y="1714320"/>
            <a:ext cx="618660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work with lasers in your lab, your supervisor should provide you with specific operating procedures and safety inform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ser Safety training is available through UAF EHS&amp;RM (907-474-2762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ounded Rectangle 3">
            <a:hlinkClick r:id="rId1"/>
          </p:cNvPr>
          <p:cNvSpPr/>
          <p:nvPr/>
        </p:nvSpPr>
        <p:spPr>
          <a:xfrm>
            <a:off x="441360" y="385776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220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23" name="Rounded Rectangle 6" descr=""/>
            <p:cNvPicPr/>
            <p:nvPr/>
          </p:nvPicPr>
          <p:blipFill>
            <a:blip r:embed="rId3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226" name="Rounded Rectangle 8" descr=""/>
            <p:cNvPicPr/>
            <p:nvPr/>
          </p:nvPicPr>
          <p:blipFill>
            <a:blip r:embed="rId4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Rounded Rectangle 9"/>
          <p:cNvGrpSpPr/>
          <p:nvPr/>
        </p:nvGrpSpPr>
        <p:grpSpPr>
          <a:xfrm>
            <a:off x="420840" y="2840040"/>
            <a:ext cx="1993680" cy="390600"/>
            <a:chOff x="420840" y="2840040"/>
            <a:chExt cx="1993680" cy="390600"/>
          </a:xfrm>
        </p:grpSpPr>
        <p:pic>
          <p:nvPicPr>
            <p:cNvPr id="229" name="Rounded Rectangle 9" descr=""/>
            <p:cNvPicPr/>
            <p:nvPr/>
          </p:nvPicPr>
          <p:blipFill>
            <a:blip r:embed="rId5"/>
            <a:stretch/>
          </p:blipFill>
          <p:spPr>
            <a:xfrm>
              <a:off x="420840" y="284004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45864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232" name="Rounded Rectangle 10" descr=""/>
            <p:cNvPicPr/>
            <p:nvPr/>
          </p:nvPicPr>
          <p:blipFill>
            <a:blip r:embed="rId6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35" name="Rounded Rectangle 11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499840" y="1714680"/>
            <a:ext cx="5915160" cy="4410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mal hazards include both hot and cold obje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t ite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heat-resistant gloves when handling hot ite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caution when heating liquids on hot pla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a stir bar or Boil-Eezers to ensure even heating of the liquids (to prevent superheating and boil-ove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ver leave hot plates unatten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ounded Rectangle 4"/>
          <p:cNvSpPr/>
          <p:nvPr/>
        </p:nvSpPr>
        <p:spPr>
          <a:xfrm>
            <a:off x="45396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Rounded Rectangle 5"/>
          <p:cNvGrpSpPr/>
          <p:nvPr/>
        </p:nvGrpSpPr>
        <p:grpSpPr>
          <a:xfrm>
            <a:off x="426960" y="2341440"/>
            <a:ext cx="1987560" cy="389160"/>
            <a:chOff x="426960" y="2341440"/>
            <a:chExt cx="1987560" cy="389160"/>
          </a:xfrm>
        </p:grpSpPr>
        <p:pic>
          <p:nvPicPr>
            <p:cNvPr id="240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42696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4604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Rounded Rectangle 7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43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Rounded Rectangle 9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246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Rounded Rectangle 10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49" name="Rounded Rectangle 10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Rounded Rectangle 11"/>
          <p:cNvGrpSpPr/>
          <p:nvPr/>
        </p:nvGrpSpPr>
        <p:grpSpPr>
          <a:xfrm>
            <a:off x="420840" y="2840040"/>
            <a:ext cx="1993680" cy="390600"/>
            <a:chOff x="420840" y="2840040"/>
            <a:chExt cx="1993680" cy="390600"/>
          </a:xfrm>
        </p:grpSpPr>
        <p:pic>
          <p:nvPicPr>
            <p:cNvPr id="252" name="Rounded Rectangle 11" descr=""/>
            <p:cNvPicPr/>
            <p:nvPr/>
          </p:nvPicPr>
          <p:blipFill>
            <a:blip r:embed="rId5"/>
            <a:stretch/>
          </p:blipFill>
          <p:spPr>
            <a:xfrm>
              <a:off x="420840" y="284004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5864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Rounded Rectangle 12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56" name="Rounded Rectangle 12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2499840" y="1714680"/>
            <a:ext cx="6186600" cy="4411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nsen burn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spect tubing prior to using the burner.  It should not have cracks, and should fit tightly to the burner and to the gas spigo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 alert to gas leaks along the tubing—these can igni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 back from the burner when lighting the g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ounded Rectangle 4"/>
          <p:cNvSpPr/>
          <p:nvPr/>
        </p:nvSpPr>
        <p:spPr>
          <a:xfrm>
            <a:off x="47952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Rounded Rectangle 5"/>
          <p:cNvGrpSpPr/>
          <p:nvPr/>
        </p:nvGrpSpPr>
        <p:grpSpPr>
          <a:xfrm>
            <a:off x="438120" y="2341440"/>
            <a:ext cx="1987560" cy="389160"/>
            <a:chOff x="438120" y="2341440"/>
            <a:chExt cx="1987560" cy="389160"/>
          </a:xfrm>
        </p:grpSpPr>
        <p:pic>
          <p:nvPicPr>
            <p:cNvPr id="261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4381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4730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Rounded Rectangle 7"/>
          <p:cNvGrpSpPr/>
          <p:nvPr/>
        </p:nvGrpSpPr>
        <p:grpSpPr>
          <a:xfrm>
            <a:off x="457200" y="4846680"/>
            <a:ext cx="1987560" cy="384120"/>
            <a:chOff x="457200" y="4846680"/>
            <a:chExt cx="1987560" cy="384120"/>
          </a:xfrm>
        </p:grpSpPr>
        <p:pic>
          <p:nvPicPr>
            <p:cNvPr id="264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4572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49068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Rounded Rectangle 9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267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Rounded Rectangle 10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70" name="Rounded Rectangle 10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Rounded Rectangle 11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273" name="Rounded Rectangle 11" descr=""/>
            <p:cNvPicPr/>
            <p:nvPr/>
          </p:nvPicPr>
          <p:blipFill>
            <a:blip r:embed="rId5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Rounded Rectangle 8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76" name="Rounded Rectangle 8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500200" y="1714680"/>
            <a:ext cx="641520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quid Nitrogen (LN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ar insulated or cryoprotective gloves when accessing LN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:  cotton mittens are not sufficient.  Splashes of LN2 can easily penetrate the mittens, causing frostbite and serious inju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ar face shield or splash goggles to protect face and/or eyes from splash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ounded Rectangle 3"/>
          <p:cNvSpPr/>
          <p:nvPr/>
        </p:nvSpPr>
        <p:spPr>
          <a:xfrm>
            <a:off x="46368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Rounded Rectangle 4"/>
          <p:cNvGrpSpPr/>
          <p:nvPr/>
        </p:nvGrpSpPr>
        <p:grpSpPr>
          <a:xfrm>
            <a:off x="438120" y="2341440"/>
            <a:ext cx="1987560" cy="389160"/>
            <a:chOff x="438120" y="2341440"/>
            <a:chExt cx="1987560" cy="389160"/>
          </a:xfrm>
        </p:grpSpPr>
        <p:pic>
          <p:nvPicPr>
            <p:cNvPr id="281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381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4730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84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Rounded Rectangle 8"/>
          <p:cNvGrpSpPr/>
          <p:nvPr/>
        </p:nvGrpSpPr>
        <p:grpSpPr>
          <a:xfrm>
            <a:off x="444600" y="3340080"/>
            <a:ext cx="1987560" cy="390600"/>
            <a:chOff x="444600" y="3340080"/>
            <a:chExt cx="1987560" cy="390600"/>
          </a:xfrm>
        </p:grpSpPr>
        <p:pic>
          <p:nvPicPr>
            <p:cNvPr id="287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477720" y="3375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90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Rounded Rectangle 10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293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96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8:20:37Z</dcterms:created>
  <dc:creator>MRT</dc:creator>
  <dc:description/>
  <dc:language>en-US</dc:language>
  <cp:lastModifiedBy>دشئث</cp:lastModifiedBy>
  <dcterms:modified xsi:type="dcterms:W3CDTF">2010-10-16T17:55:37Z</dcterms:modified>
  <cp:revision>49</cp:revision>
  <dc:subject/>
  <dc:title>Slide 1</dc:title>
</cp:coreProperties>
</file>