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FA6B-E395-480B-BB80-70AC60DE8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5504-DCF8-4A66-891F-E9587CE84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8E38-F41E-4617-AF7D-F64BFE8B9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6A9A-264C-46E3-91E2-34A7820AF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B2BC-1061-47B3-A54E-409520BC6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1E95-6B9F-451B-AA12-DD4139B1C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87AF-62FD-416E-AC11-6F489852B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6758-7172-4290-8012-0186FF16C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363F-F0D1-4D8A-9014-188CAD716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B924-ABAD-425B-99BA-5516E0601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AD66-0EB2-4544-8DC9-12237238C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3CC7-1887-45F3-9E15-2E9B1F6B3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8A95-DF19-4F1C-9A12-022214E73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B898-3B17-485A-87E0-543E7CA17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0929-2AE6-4DD8-8323-895BAA48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63E0-9C36-4A69-BB1D-E1AE83936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790C-E92D-459D-9835-4866DB232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C2CA-B982-49D7-B411-6A060999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1BF3-B3BC-4589-9FBF-105B2E72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DEF6-82FF-4A11-974B-FC95F60A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4779-5F44-4B75-9FC4-BAC1FA50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7DC7-3B0E-4425-BA19-2F119409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A964-B4C1-4A28-9801-918E98EC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A1A7-642D-4A19-9051-473F5BD8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0317-256D-46A0-8371-2951F808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511F-CE9C-43FE-A638-E19484458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520" y="1295280"/>
            <a:ext cx="5767200" cy="74678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 fontScale="95000"/>
          </a:bodyPr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Relationship between power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urrent, voltage and resistance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 = power (watt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 = current (amper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 = voltage (volt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 = resistance (ohm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eating tape uses 5 amps at 120 vol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wer dissipated by this device is 600 watts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6"/>
              <p:cNvSpPr txBox="1"/>
              <p:nvPr/>
            </p:nvSpPr>
            <p:spPr>
              <a:xfrm>
                <a:off x="2286000" y="3505320"/>
                <a:ext cx="220968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×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Text Box 7"/>
          <p:cNvSpPr/>
          <p:nvPr/>
        </p:nvSpPr>
        <p:spPr>
          <a:xfrm>
            <a:off x="441360" y="1413000"/>
            <a:ext cx="588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10"/>
              <p:cNvSpPr txBox="1"/>
              <p:nvPr/>
            </p:nvSpPr>
            <p:spPr>
              <a:xfrm>
                <a:off x="2286000" y="2747880"/>
                <a:ext cx="21747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11"/>
              <p:cNvSpPr txBox="1"/>
              <p:nvPr/>
            </p:nvSpPr>
            <p:spPr>
              <a:xfrm>
                <a:off x="2286000" y="4272120"/>
                <a:ext cx="244008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77440" y="1523880"/>
            <a:ext cx="5770440" cy="653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e careful with electricity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sk someone for help if you are unsur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 rot="16200000">
            <a:off x="-322200" y="34686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110-1018_IMG"/>
          <p:cNvPicPr/>
          <p:nvPr/>
        </p:nvPicPr>
        <p:blipFill>
          <a:blip r:embed="rId1"/>
          <a:stretch/>
        </p:blipFill>
        <p:spPr>
          <a:xfrm>
            <a:off x="1314360" y="2641680"/>
            <a:ext cx="47437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 rot="16200000">
            <a:off x="-322200" y="34686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6" descr="110-1023_IMG"/>
          <p:cNvPicPr/>
          <p:nvPr/>
        </p:nvPicPr>
        <p:blipFill>
          <a:blip r:embed="rId1"/>
          <a:stretch/>
        </p:blipFill>
        <p:spPr>
          <a:xfrm>
            <a:off x="1200240" y="2641680"/>
            <a:ext cx="4800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C vs. DC Electri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5770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Direct current (DC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C:\Documents and Settings\josh\Desktop\Graph1.EMF"/>
          <p:cNvPicPr/>
          <p:nvPr/>
        </p:nvPicPr>
        <p:blipFill>
          <a:blip r:embed="rId1"/>
          <a:stretch/>
        </p:blipFill>
        <p:spPr>
          <a:xfrm>
            <a:off x="914400" y="2209680"/>
            <a:ext cx="4610160" cy="56390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1518480" y="7848720"/>
            <a:ext cx="40608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3300"/>
                </a:solidFill>
                <a:latin typeface="Arial"/>
              </a:rPr>
              <a:t>Alternating current (AC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Equi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577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ower requirements (input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3520" y="3048120"/>
          <a:ext cx="6019560" cy="3689280"/>
        </p:xfrm>
        <a:graphic>
          <a:graphicData uri="http://schemas.openxmlformats.org/drawingml/2006/table">
            <a:tbl>
              <a:tblPr/>
              <a:tblGrid>
                <a:gridCol w="2619360"/>
                <a:gridCol w="1008000"/>
                <a:gridCol w="1173240"/>
                <a:gridCol w="12189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quip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ol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Am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Wat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bopu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yopu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ting tape (bi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t gu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Lethal Electri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7440" y="1523880"/>
            <a:ext cx="5770440" cy="6531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619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art below assumes 1 second hand to foo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osure to 120 volt, 60 cycle AC power suppl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09480" y="2590920"/>
          <a:ext cx="5791320" cy="4917960"/>
        </p:xfrm>
        <a:graphic>
          <a:graphicData uri="http://schemas.openxmlformats.org/drawingml/2006/table">
            <a:tbl>
              <a:tblPr/>
              <a:tblGrid>
                <a:gridCol w="2210040"/>
                <a:gridCol w="3581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p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ight shock felt; not painful but disturb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3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inful shock; "let-go" r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15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eme pain, respiratory arrest, severe muscular contra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-4,30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tricular fibrill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+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ac arrest, severe burns and probable dea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60"/>
          <p:cNvSpPr/>
          <p:nvPr/>
        </p:nvSpPr>
        <p:spPr>
          <a:xfrm>
            <a:off x="517680" y="7966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1"/>
          <p:cNvSpPr/>
          <p:nvPr/>
        </p:nvSpPr>
        <p:spPr>
          <a:xfrm>
            <a:off x="460440" y="7924680"/>
            <a:ext cx="61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aboratory wall outlets provide 20,000 mA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Fuses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electrical wiring from carry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malfunctioning equipment from draw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ductor melts if too much current flows through fu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 only be used onc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ways use the correct fu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5"/>
          <p:cNvGrpSpPr/>
          <p:nvPr/>
        </p:nvGrpSpPr>
        <p:grpSpPr>
          <a:xfrm>
            <a:off x="1371600" y="3809880"/>
            <a:ext cx="1563840" cy="1983600"/>
            <a:chOff x="1371600" y="3809880"/>
            <a:chExt cx="1563840" cy="1983600"/>
          </a:xfrm>
        </p:grpSpPr>
        <p:pic>
          <p:nvPicPr>
            <p:cNvPr id="69" name="Picture 11" descr="http://static.howstuffworks.com/gif/wfc-fuse-good.jpg"/>
            <p:cNvPicPr/>
            <p:nvPr/>
          </p:nvPicPr>
          <p:blipFill>
            <a:blip r:embed="rId1"/>
            <a:stretch/>
          </p:blipFill>
          <p:spPr>
            <a:xfrm>
              <a:off x="1371600" y="3809880"/>
              <a:ext cx="156384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/>
            <p:cNvSpPr/>
            <p:nvPr/>
          </p:nvSpPr>
          <p:spPr>
            <a:xfrm>
              <a:off x="1450440" y="533376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ew f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6"/>
          <p:cNvGrpSpPr/>
          <p:nvPr/>
        </p:nvGrpSpPr>
        <p:grpSpPr>
          <a:xfrm>
            <a:off x="3581280" y="3809880"/>
            <a:ext cx="1710000" cy="1983600"/>
            <a:chOff x="3581280" y="3809880"/>
            <a:chExt cx="1710000" cy="1983600"/>
          </a:xfrm>
        </p:grpSpPr>
        <p:pic>
          <p:nvPicPr>
            <p:cNvPr id="72" name="Picture 7" descr="http://static.howstuffworks.com/gif/wfc-fuse-blown.jpg"/>
            <p:cNvPicPr/>
            <p:nvPr/>
          </p:nvPicPr>
          <p:blipFill>
            <a:blip r:embed="rId2"/>
            <a:stretch/>
          </p:blipFill>
          <p:spPr>
            <a:xfrm>
              <a:off x="3581280" y="3809880"/>
              <a:ext cx="17100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4"/>
            <p:cNvSpPr/>
            <p:nvPr/>
          </p:nvSpPr>
          <p:spPr>
            <a:xfrm>
              <a:off x="3603600" y="533376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lown f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Circuit Breaker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electrical wiring from carry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echanical switch is driven by an electromagne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 only be reset many tim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13"/>
          <p:cNvGrpSpPr/>
          <p:nvPr/>
        </p:nvGrpSpPr>
        <p:grpSpPr>
          <a:xfrm>
            <a:off x="1655640" y="3230640"/>
            <a:ext cx="2381400" cy="2682720"/>
            <a:chOff x="1655640" y="3230640"/>
            <a:chExt cx="2381400" cy="2682720"/>
          </a:xfrm>
        </p:grpSpPr>
        <p:sp>
          <p:nvSpPr>
            <p:cNvPr id="77" name="Rectangle 10"/>
            <p:cNvSpPr/>
            <p:nvPr/>
          </p:nvSpPr>
          <p:spPr>
            <a:xfrm>
              <a:off x="1655640" y="3230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1"/>
            <p:cNvSpPr/>
            <p:nvPr/>
          </p:nvSpPr>
          <p:spPr>
            <a:xfrm>
              <a:off x="1655640" y="3230640"/>
              <a:ext cx="2381400" cy="26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" name="Picture 12" descr="http://static.howstuffworks.com/gif/circuit-breaker-diagram.gif"/>
          <p:cNvPicPr/>
          <p:nvPr/>
        </p:nvPicPr>
        <p:blipFill>
          <a:blip r:embed="rId1"/>
          <a:stretch/>
        </p:blipFill>
        <p:spPr>
          <a:xfrm>
            <a:off x="1143000" y="480060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Circuit Breaker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e circuit breaker may cover many electrical receptacles in a lab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ceptacles in some labs are labeled with a number that corresponds to a circuit break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8"/>
          <p:cNvGraphicFramePr/>
          <p:nvPr/>
        </p:nvGraphicFramePr>
        <p:xfrm>
          <a:off x="1066680" y="4876920"/>
          <a:ext cx="507996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876920"/>
                    <a:ext cx="507996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reventing Accident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5823000" cy="723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oid contact with energized circui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isconnect the power source before servicing or repairing electrical equipm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Work with only one hand, keeping the other hand behind you or in a pock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f water or a chemical is spilled onto equipment, shut off power at the main switch or circuit breaker and unplug the equip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f an individual comes in contact with a live electrical conductor, do not touch the equipment, cord or pers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Times New Roman"/>
              </a:rPr>
              <a:t>Disconnect the power source from the circuit breaker or pull out the plug using a leather belt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reventing Accident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79096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Electrical Fir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Unplug equipment first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Use dry chemical fire extinguisher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If fire is large, unplug equipment and call fire dept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3300"/>
                </a:solidFill>
                <a:latin typeface="Arial"/>
              </a:rPr>
              <a:t>Never use water!!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C:\Documents and Settings\josh\Application Data\Microsoft\Media Catalog\Downloaded Clips\cl0\HH00861_.wmf"/>
          <p:cNvPicPr/>
          <p:nvPr/>
        </p:nvPicPr>
        <p:blipFill>
          <a:blip r:embed="rId1"/>
          <a:stretch/>
        </p:blipFill>
        <p:spPr>
          <a:xfrm>
            <a:off x="4114800" y="1447920"/>
            <a:ext cx="808200" cy="1644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:\Program Files\Common Files\Microsoft Shared\Clipart\cagcat50\bd06711_.wmf"/>
          <p:cNvPicPr/>
          <p:nvPr/>
        </p:nvPicPr>
        <p:blipFill>
          <a:blip r:embed="rId2"/>
          <a:stretch/>
        </p:blipFill>
        <p:spPr>
          <a:xfrm>
            <a:off x="4724280" y="7086600"/>
            <a:ext cx="1757520" cy="162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8T14:02:02Z</dcterms:created>
  <dc:creator>josh</dc:creator>
  <dc:description/>
  <dc:language>en-US</dc:language>
  <cp:lastModifiedBy>دشئث</cp:lastModifiedBy>
  <dcterms:modified xsi:type="dcterms:W3CDTF">2010-10-16T15:59:47Z</dcterms:modified>
  <cp:revision>26</cp:revision>
  <dc:subject/>
  <dc:title>Electrical Safety in the Laboratory</dc:title>
</cp:coreProperties>
</file>